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E706-ABCF-4D22-88E3-B949BD19C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2143080" y="685800"/>
            <a:ext cx="257184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686E-7F99-45DC-8D0B-29A0DAAE6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E93A3-8E6B-41E4-AB41-37013F41C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84C85-7242-4E07-9B77-EEEA84EF7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31C78-2562-417A-B43B-D57E22EEB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6F7C8-AB50-4A99-8616-784F4E6D8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DEC5-756B-4E2A-AA81-814E1E45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13BB8-FBC5-4FF9-AA61-571F6C233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C540-0C66-42DE-95CF-3BF2D4EA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ECF02-45CE-4675-BE7D-503A3190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7872E-6237-4BF7-81EE-26EA44636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1DBBE-5DE8-4BA1-93CD-4CCD639F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9D18A-105E-46CB-AF51-F2A4519E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1472-7682-4017-A1F3-B193CD68B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5FAD-CA8B-433D-8B1E-F5E9C2F814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6"/>
          <p:cNvSpPr/>
          <p:nvPr/>
        </p:nvSpPr>
        <p:spPr>
          <a:xfrm>
            <a:off x="0" y="0"/>
            <a:ext cx="6858000" cy="84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ttery Polarity: </a:t>
            </a:r>
            <a:r>
              <a:rPr b="0" lang="en-US" sz="1400" spc="-1" strike="noStrike">
                <a:solidFill>
                  <a:srgbClr val="000000"/>
                </a:solidFill>
                <a:latin typeface="Calibri"/>
              </a:rPr>
              <a:t>Batteries have 2 poles; positive and negative. Positive is called carbon anode. Negative is called zinc cathode. This is only for dry celled batteries though. Wet cells were bottles with liquid inside that had to be handled well to avoid spillage.</a:t>
            </a:r>
            <a:br>
              <a:rPr sz="1400"/>
            </a:br>
            <a:r>
              <a:rPr b="1" lang="en-US" sz="1400" spc="-1" strike="noStrike">
                <a:solidFill>
                  <a:srgbClr val="000000"/>
                </a:solidFill>
                <a:latin typeface="Calibri"/>
              </a:rPr>
              <a:t>Earth's Magnetic Field In a Nutshell: </a:t>
            </a:r>
            <a:r>
              <a:rPr b="0" lang="en-US" sz="1400" spc="-1" strike="noStrike">
                <a:solidFill>
                  <a:srgbClr val="000000"/>
                </a:solidFill>
                <a:latin typeface="Calibri"/>
              </a:rPr>
              <a:t>The field is caused by swirling iron in the outer core. This causes a magnetic field with a north and south pole, just like a magnet only without one. The North and South poles are 2 things: geographic points where the imaginary axis goes through. The 2nd one is the magnetic pole. These poles are close, but not the geographic ones. That means compasses are always pointing to the magnetic poles, not the geographic, which could be quite a problem near either pole. Either way the field attracts a compass toward the north or south pole; depending on which hemisphere you are in. Then you can tell which direction the magnet's is pointing.</a:t>
            </a:r>
            <a:br>
              <a:rPr sz="1400"/>
            </a:br>
            <a:r>
              <a:rPr b="1" lang="en-US" sz="1400" spc="-1" strike="noStrike">
                <a:solidFill>
                  <a:srgbClr val="000000"/>
                </a:solidFill>
                <a:latin typeface="Calibri"/>
              </a:rPr>
              <a:t>Circuit Theory: </a:t>
            </a:r>
            <a:r>
              <a:rPr b="0" lang="en-US" sz="1400" spc="-1" strike="noStrike">
                <a:solidFill>
                  <a:srgbClr val="000000"/>
                </a:solidFill>
                <a:latin typeface="Calibri"/>
              </a:rPr>
              <a:t>The theory of work being able to be accomplished by routing matters through a loop.</a:t>
            </a:r>
            <a:br>
              <a:rPr sz="1400"/>
            </a:br>
            <a:r>
              <a:rPr b="0" lang="en-US" sz="1400" spc="-1" strike="noStrike">
                <a:solidFill>
                  <a:srgbClr val="000000"/>
                </a:solidFill>
                <a:latin typeface="Calibri"/>
              </a:rPr>
              <a:t>The three types of matter used:</a:t>
            </a:r>
            <a:br>
              <a:rPr sz="1400"/>
            </a:br>
            <a:r>
              <a:rPr b="0" lang="en-US" sz="1400" spc="-1" strike="noStrike">
                <a:solidFill>
                  <a:srgbClr val="000000"/>
                </a:solidFill>
                <a:latin typeface="Calibri"/>
              </a:rPr>
              <a:t>electronic or electrical circuits(electrons and charged 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neumatic circuits: compressed g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aulic circuits: pressured liquids </a:t>
            </a:r>
            <a:br>
              <a:rPr sz="1400"/>
            </a:br>
            <a:r>
              <a:rPr b="1" lang="en-US" sz="1400" spc="-1" strike="noStrike">
                <a:solidFill>
                  <a:srgbClr val="000000"/>
                </a:solidFill>
                <a:latin typeface="Calibri"/>
              </a:rPr>
              <a:t>Ohm's Law: </a:t>
            </a:r>
            <a:r>
              <a:rPr b="0" lang="en-US" sz="1400" spc="-1" strike="noStrike">
                <a:solidFill>
                  <a:srgbClr val="000000"/>
                </a:solidFill>
                <a:latin typeface="Calibri"/>
              </a:rPr>
              <a:t>I(current)=V(Voltage)/R(Resistance) {J}=</a:t>
            </a:r>
            <a:r>
              <a:rPr b="0" i="1" lang="en-US" sz="1400" spc="-1" strike="noStrike">
                <a:solidFill>
                  <a:srgbClr val="000000"/>
                </a:solidFill>
                <a:latin typeface="Calibri"/>
              </a:rPr>
              <a:t>σ</a:t>
            </a:r>
            <a:r>
              <a:rPr b="0" lang="en-US" sz="1400" spc="-1" strike="noStrike">
                <a:solidFill>
                  <a:srgbClr val="000000"/>
                </a:solidFill>
                <a:latin typeface="Calibri"/>
              </a:rPr>
              <a:t>{E},Where J is the density at any moment of any resistant material, E is the electric field at that location, and </a:t>
            </a:r>
            <a:r>
              <a:rPr b="0" i="1" lang="en-US" sz="1400" spc="-1" strike="noStrike">
                <a:solidFill>
                  <a:srgbClr val="000000"/>
                </a:solidFill>
                <a:latin typeface="Calibri"/>
              </a:rPr>
              <a:t>σ</a:t>
            </a:r>
            <a:r>
              <a:rPr b="0" lang="en-US" sz="1400" spc="-1" strike="noStrike">
                <a:solidFill>
                  <a:srgbClr val="000000"/>
                </a:solidFill>
                <a:latin typeface="Calibri"/>
              </a:rPr>
              <a:t> is a material dependent parameter called the conductiv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pere: </a:t>
            </a:r>
            <a:r>
              <a:rPr b="0" lang="en-US" sz="1400" spc="-1" strike="noStrike">
                <a:solidFill>
                  <a:srgbClr val="000000"/>
                </a:solidFill>
                <a:latin typeface="Calibri"/>
              </a:rPr>
              <a:t>An ampere, usually known as an amp, is an SI base unit. It is named after André-Marie Ampère, one of the main discoverers of electromagnetism. It is a measure of the amount of electric charge that passed under a point in a certain amount of time. Around 6.242 × 10^18 electrons passing a given point each second constitutes one ampe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lt: </a:t>
            </a:r>
            <a:r>
              <a:rPr b="0" lang="en-US" sz="1400" spc="-1" strike="noStrike">
                <a:solidFill>
                  <a:srgbClr val="000000"/>
                </a:solidFill>
                <a:latin typeface="Calibri"/>
              </a:rPr>
              <a:t>a unit of potential equal to the potential difference between two points on a conductor carrying a current of 1 ampere when the power dissipated between the two points is 1 watt; equivalent to the potential difference across a resistance of 1 ohm when 1 ampere of current flows through 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Electromagnetic Principles: </a:t>
            </a:r>
            <a:r>
              <a:rPr b="0" lang="en-US" sz="1400" spc="-1" strike="noStrike">
                <a:solidFill>
                  <a:srgbClr val="000000"/>
                </a:solidFill>
                <a:latin typeface="Calibri"/>
              </a:rPr>
              <a:t>If you connect the negative side of the battery to the positive side, then electrons flow straight from the negative to the positive side. Because there are no object between the flow from the negative and positive, the battery shorts out. The motion of the electrons form a small magnetic field that grows stronger when coiled because it condenses the  wire’s surface are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hms: </a:t>
            </a:r>
            <a:r>
              <a:rPr b="0" lang="en-US" sz="1400" spc="-1" strike="noStrike">
                <a:solidFill>
                  <a:srgbClr val="000000"/>
                </a:solidFill>
                <a:latin typeface="Calibri"/>
              </a:rPr>
              <a:t>A measure of electrical resistance. Equal to the resistance between two points on a conductor when a potential difference of one volt between them produces a current of one amp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rection of Current: </a:t>
            </a:r>
            <a:r>
              <a:rPr b="0" lang="en-US" sz="1400" spc="-1" strike="noStrike">
                <a:solidFill>
                  <a:srgbClr val="000000"/>
                </a:solidFill>
                <a:latin typeface="Calibri"/>
              </a:rPr>
              <a:t>In some cases such as batteries and water and all organisms bodies, the flow of electricity are in both directions. In other cases, like metals, electricity flows from positive to negat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20:51:41Z</dcterms:created>
  <dc:creator>install</dc:creator>
  <dc:description/>
  <dc:language>en-US</dc:language>
  <cp:lastModifiedBy>Nitin Kumar</cp:lastModifiedBy>
  <dcterms:modified xsi:type="dcterms:W3CDTF">2010-01-20T01:19:01Z</dcterms:modified>
  <cp:revision>3</cp:revision>
  <dc:subject/>
  <dc:title>Slide 1</dc:title>
</cp:coreProperties>
</file>